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16B-9411-4634-B7B1-16B444CA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E83-7F37-4E6B-9577-F4C1C7B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261-31D9-4BCC-8492-03F10499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3F4-C01B-473F-A5D8-CB906517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359-95CA-45F3-BE18-1D92CDA8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AB1-D950-4830-9AE1-0D979E10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1AF-E2BB-4D0C-99C4-291DE49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82B-1C4A-4DAA-9165-369E97B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33A-FB5E-416E-A563-254426C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937-6635-473F-8480-3279B1C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791-6927-4840-A6D6-4F2594A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3D1-84A9-40D9-A7C5-007ED65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E4F-3CF6-420C-980C-A01D25140B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urriculum Making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he What, Who, and Why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In Tyler’s view, each school has own set of values and these are imbedded in the curriculum of that school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819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herefore, he proposed that a school develop a statement of educational philosophy and it be used to screen the objectives that were developed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ontroversy over term “Objectives”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Tyler used term “objectives” and suggested we start with defining our objectives – Today these would be called “outcomes”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Many thought in behavioral objective terms rather than goals or aims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yler did advocate the use of objectives – and behavioral objectives have become the cornerstone of curriculum decision-making and teaching strategies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83988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ince the real purpose of education is not to have the instructor perform certain activities but to bring about significant changes in the students' pattern of behaviour,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t becomes important to recognize that any statements of objectives of the school should be a statement of changes to take place in the students.”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  (Tyler 1949: 44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yler in a Nutshell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ate objectiv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elect learning activiti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Organize learning activiti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velop evaluation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So, if you have to write daily objectives or outcomes, thank Ralph W. Tyl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riticism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Focus on objectiv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Many suggest that we start with ideas and belief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udents are not included in proces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Learning can be organized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AC Futura Casual"/>
              </a:rPr>
              <a:t>John Franklin Bobbit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4514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John Bobbit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Advocated education that was useful for promoting society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Advocate of vocational education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Questioned the need for many traditional cours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Traditional Approaches to Curriculum Developmen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as Proces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as Praxi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as Produc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AC Futura Casual"/>
              </a:rPr>
              <a:t>John Franklin</a:t>
            </a: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 Bobbit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"As agencies of social progress, schools should give efficient service.  And efficient service, we are nowadays coming to know, is service directed, not by guess or whim or special self-interest, but by science."  (Kliebard, p 101) 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John Goodlad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738600" y="2314440"/>
            <a:ext cx="1873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John Goodlad – three levels of curriculum making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Instruction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Decisions made by teachers and student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John Goodlad – three levels of curriculum making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Institution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School, school district, state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John Goodlad – three levels of curriculum making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Societ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Money supplied by citizen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     </a:t>
            </a: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Michael Apple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ltural reproduction”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83" name="" descr="Michael Apple"/>
          <p:cNvPicPr/>
          <p:nvPr/>
        </p:nvPicPr>
        <p:blipFill>
          <a:blip r:embed="rId2"/>
          <a:stretch/>
        </p:blipFill>
        <p:spPr>
          <a:xfrm>
            <a:off x="6019920" y="1219320"/>
            <a:ext cx="15523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Michael Apple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Each new generation learns the social patterns and power relations of the prior one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We learn to be part of the system and our proper role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Michael Apple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Knowledge is cultural capit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Often done through hidden curriculum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cker Walk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liberative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087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Decker Walk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One of the authors of your textbook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udied the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CAC Futura Casual"/>
              </a:rPr>
              <a:t>process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 of curriculum developmen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1949 – Movement  to a Scientific Approach to Curriculum Making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Decker Walk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Used term “naturalistic” because he described how curriculum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CAC Futura Casual"/>
              </a:rPr>
              <a:t>was actually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 developed rather than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CAC Futura Casual"/>
              </a:rPr>
              <a:t>how it should be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 developed.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Planning ha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Part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Platform – approach the task with our ideas, convictions, and beliefs.  Everyone gets an opportunity to talk, discuss, and even argue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Planning ha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Part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Deliberation – Move away from individual beliefs to assessing possible points of action- Feelings can run high and the process can seem chaotic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Planning ha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Part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sign – Group achieves consensus so that a course of action is accepted. 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Walker’s Model 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396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riticism of Walker’s Model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udied only large scale processes – not individual teachers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oesn’t address what happens after curriculum is designed and implemented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lliott W. Eisn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Artistic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1316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Believes in artistry of teaching and helping teachers develop that ar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uggests that process of curriculum development is convoluted, circuitous, and adventitiou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1. Goals and their prioriti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Does not think it is always possible to define specific objective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-838080">
              <a:spcBef>
                <a:spcPts val="1100"/>
              </a:spcBef>
              <a:buClr>
                <a:srgbClr val="ffffcc"/>
              </a:buClr>
              <a:buSzPct val="80000"/>
              <a:buFont typeface="CAC Futura Casu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ontent of the Curriculum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*  Consider the needs of individual students, society, and subject matter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Ralph W. Tyl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Rational-Linear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04240" indent="-804240">
              <a:spcBef>
                <a:spcPts val="1001"/>
              </a:spcBef>
              <a:buClr>
                <a:srgbClr val="ffffcc"/>
              </a:buClr>
              <a:buSzPct val="80000"/>
              <a:buFont typeface="CAC Futura Casu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Types of Learning Opportunities -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170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education imagination must come into play in order to transform goals and contents into events that will have educational consequences for students”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4.  Organization of Learning Opportunities – Like a spider web – suggest that learning is not linear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5.  Organization of Content Areas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*  Emphasis on cross-curricular organization of content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6.  Mode of Presentation and Mode of Response – suggests a wide variety of modes of presentation to meet various learning styles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19320" indent="-762120">
              <a:spcBef>
                <a:spcPts val="1001"/>
              </a:spcBef>
              <a:buClr>
                <a:srgbClr val="ffffcc"/>
              </a:buClr>
              <a:buSzPct val="80000"/>
              <a:buFont typeface="CAC Futura Casu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Types of Evaluation Procedure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600200" indent="-685800">
              <a:spcBef>
                <a:spcPts val="901"/>
              </a:spcBef>
              <a:buClr>
                <a:srgbClr val="ffffcc"/>
              </a:buClr>
              <a:buSzPct val="80000"/>
              <a:buFont typeface="CAC Futura Casu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Not viewed as final step but viewed as something  pervades the entire process.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Ralph W. Tyl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1949 – became the most prominent name in curriculum studies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39480" indent="-3394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Advocated the evaluation of student behaviors to determine education failure or succes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Ralph W. Tyl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eory is called “the dominant model of the twentieth century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Wrote “Basic Principles of Curriculum and Instruction”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Four Fundamental Questions in Designing Curriculum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1. What educational purposes should the school seek to attain?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2.What educational experiences can be provided that are likely to attain these purposes?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Four Fundamental Questions in Designing Curriculum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3. How should learning experiences be organized.  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4. How can we determine whether these purposes are being attained?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yler never suggested what the aims or objectives should be!  He did not advocate a particular curriculum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4:04:03Z</dcterms:created>
  <dc:creator>User</dc:creator>
  <dc:description/>
  <dc:language>en-US</dc:language>
  <cp:lastModifiedBy>Carlette Hardin</cp:lastModifiedBy>
  <dcterms:modified xsi:type="dcterms:W3CDTF">2005-10-22T13:39:50Z</dcterms:modified>
  <cp:revision>6</cp:revision>
  <dc:subject/>
  <dc:title>Procedures for Curriculum Making </dc:title>
</cp:coreProperties>
</file>